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004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aker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1195560" y="690120"/>
            <a:ext cx="4611600" cy="34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228600" y="4381200"/>
            <a:ext cx="654696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1"/>
          </p:nvPr>
        </p:nvSpPr>
        <p:spPr>
          <a:xfrm>
            <a:off x="3893760" y="8759520"/>
            <a:ext cx="303372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5DE8894-B9DA-4623-A0AA-509A1C789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" y="8834400"/>
            <a:ext cx="1506600" cy="2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28600" y="4381200"/>
            <a:ext cx="654696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tabbed properties view is configured by implementing three extensions.  Each tabbed properties view is composed of a property contributor who contributes one or more property tabs.  Each property tab is filled with one or more sect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8640" y="367488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4240" y="1636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8640" y="367488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4240" y="367488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73360" y="1636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7720" y="1636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8640" y="367488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73360" y="367488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7720" y="367488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88640" y="163656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63656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54080" y="622440"/>
            <a:ext cx="898992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4240" y="163656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88640" y="367488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8640" y="163656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4240" y="1636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54240" y="367488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54240" y="1636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88640" y="367488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88640" y="367488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54240" y="1636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88640" y="367488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54240" y="367488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73360" y="1636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57720" y="1636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088640" y="367488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73360" y="367488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57720" y="367488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4240" y="163656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4080" y="622440"/>
            <a:ext cx="898992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4240" y="163656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8640" y="367488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4240" y="1636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4240" y="367488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4240" y="1636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8640" y="367488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02320"/>
            <a:ext cx="9144000" cy="387360"/>
          </a:xfrm>
          <a:prstGeom prst="rect">
            <a:avLst/>
          </a:prstGeom>
          <a:solidFill>
            <a:srgbClr val="4b6baf"/>
          </a:solidFill>
          <a:ln w="3240">
            <a:solidFill>
              <a:srgbClr val="4b6b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ba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88640" y="163656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216000">
              <a:buClr>
                <a:srgbClr val="0099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6440" indent="-228600">
              <a:buClr>
                <a:srgbClr val="0099c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07920" indent="-230040">
              <a:buClr>
                <a:srgbClr val="0099cc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38320" indent="-228600">
              <a:buClr>
                <a:srgbClr val="0099cc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3832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3832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-1440" y="6477120"/>
            <a:ext cx="914868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4b6b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36040" y="90360"/>
            <a:ext cx="34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Software Group  |  Rational soft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4b6b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4b6baf"/>
          </a:solidFill>
          <a:ln w="9360">
            <a:solidFill>
              <a:srgbClr val="4b6b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4789440"/>
            <a:ext cx="9142560" cy="37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890720" y="4176720"/>
            <a:ext cx="1654200" cy="306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0099cc"/>
              </a:solidFill>
              <a:latin typeface="Arial"/>
            </a:endParaRPr>
          </a:p>
          <a:p>
            <a:pPr lvl="1" marL="457200" indent="-227160" algn="ctr">
              <a:spcBef>
                <a:spcPts val="499"/>
              </a:spcBef>
              <a:spcAft>
                <a:spcPts val="300"/>
              </a:spcAft>
              <a:buClr>
                <a:srgbClr val="0099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66560" algn="ctr">
              <a:spcBef>
                <a:spcPts val="400"/>
              </a:spcBef>
              <a:buClr>
                <a:srgbClr val="0099cc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93720" algn="ctr">
              <a:spcBef>
                <a:spcPts val="400"/>
              </a:spcBef>
              <a:buClr>
                <a:srgbClr val="0099cc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9080" algn="ctr">
              <a:spcBef>
                <a:spcPts val="400"/>
              </a:spcBef>
              <a:buClr>
                <a:srgbClr val="0099cc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9080">
              <a:spcBef>
                <a:spcPts val="4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9080">
              <a:spcBef>
                <a:spcPts val="4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tending RDA and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ustom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y tabs and section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i Li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baf"/>
                </a:solidFill>
                <a:latin typeface="Arial"/>
                <a:ea typeface="宋体"/>
              </a:rPr>
              <a:t>Tabbed properties view extension points</a:t>
            </a: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3080" y="1636560"/>
            <a:ext cx="80550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perty Contribut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g.eclipse.ui.views.properties.tabbed.PropertyContrib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dentifies a unique contributor for the tabs and 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sually matches the unique workbench part id that is contributing to the tabs and 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perty Tab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rg.eclipse.ui.views.properties.tagged.PropertyTa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bes the tabs for a contrib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perty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rg.eclipse.ui.views.properties.tabbed.Property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bes the sections for a contrib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1640" y="622440"/>
            <a:ext cx="80233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baf"/>
                </a:solidFill>
                <a:latin typeface="Arial"/>
                <a:ea typeface="宋体"/>
              </a:rPr>
              <a:t>RDA reusable implementation classes</a:t>
            </a: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stractDMDetails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stractGUI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4cc"/>
                </a:solidFill>
                <a:latin typeface="Arial"/>
                <a:ea typeface="宋体"/>
              </a:rPr>
              <a:t>Property contributor defined for Data Project Explorer in RDA</a:t>
            </a: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3720" y="1636200"/>
            <a:ext cx="8692920" cy="45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extension point="org.eclipse.ui.views.properties.tabbed.propertyContributo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propertyContrib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contributorId="com.ibm.datatools.propertie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labelProvider=“com.ibm.datatools.core.ui.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	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	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PropertyLabelProvide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typeMapper="com.ibm.datatools.core.ui.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	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	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PropertyTypeMapp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propertyCategory category="Core" 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propertyCategory category="Extended" 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propertyCategory category="Other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propertyCategory category="UserDefined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propertyCategory category="Appearanc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propertyCategory category="rulerGrid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propertyCategory category="Advanced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/propertyContribut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/exten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baf"/>
                </a:solidFill>
                <a:latin typeface="Arial"/>
                <a:ea typeface="宋体"/>
              </a:rPr>
              <a:t>Property tabs defined for model objects in RDA</a:t>
            </a: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5120" y="1360440"/>
            <a:ext cx="845352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extension         point="org.eclipse.ui.views.properties.tabbed.propertyTab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propertyTabs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contributorId="com.ibm.datatools.propertie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property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label="%datatools.modeler.properties.general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category="Cor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id="datatools.properties.common.GeneralDMPag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/propertyTa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property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label="%datatools.modeler.properties.typ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category="Cor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afterTab="datatools.properties.common.GeneralDMPag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id="datatools.modeler.properties.column.TypePag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/propertyTa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property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label="%datatools.logical.ui.properties.typ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category="Cor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afterTab="datatools.properties.common.CommentDMPag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id="datatools.logical.ui.Type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/propertyTab&gt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/propertyTab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/exten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baf"/>
                </a:solidFill>
                <a:latin typeface="Arial"/>
                <a:ea typeface="宋体"/>
              </a:rPr>
              <a:t>Property sections defined for model objects in RDA</a:t>
            </a: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1800" y="1636560"/>
            <a:ext cx="84902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extension         point="org.eclipse.ui.views.properties.tabbed.propertySection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property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contributorId="com.ibm.datatools.propertie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property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tab="datatools.logical.ui.Type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class="com.ibm.datatools.logical.ui.properties.attribu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	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	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	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TypeDetail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id="datatools.logical.ui.properties.TypeDetail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input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 t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ype="com.ibm.db.models.logical.Attribute“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宋体"/>
              </a:rPr>
              <a:t>/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gt;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/propertySe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/propertySection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cc"/>
                </a:solidFill>
                <a:latin typeface="Courier New"/>
                <a:ea typeface="Times New Roman"/>
              </a:rPr>
              <a:t>&lt;/exten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baf"/>
                </a:solidFill>
                <a:latin typeface="Arial"/>
              </a:rPr>
              <a:t>AbstractDMDetailsSection class</a:t>
            </a: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8600" y="1241280"/>
            <a:ext cx="823104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om.ibm.datatools.modeler.properties.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AbstractDMDetailsSec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s ISec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atalogObjectLis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stens to model changes and calls update() on GUI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mm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mple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, such a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Input(), refresh(), addGUIEl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 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PropertySection extends AbstractDMDetailsS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implements createControls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site parent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bedPropertySheetWidgetFactory facto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attachedCont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520" y="622080"/>
            <a:ext cx="790236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baf"/>
                </a:solidFill>
                <a:latin typeface="Arial"/>
              </a:rPr>
              <a:t>AbstractGUIElement class</a:t>
            </a: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8280" y="1241280"/>
            <a:ext cx="705780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om.ibm.datatools.modeler.properties.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AbstractGUIEleme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s IGUI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mon GUI element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mpleProperties extends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GUI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mpleProperties imp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0099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reateControls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mposite pare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0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abbedPropertySheetWidgetFactory factor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0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rol attachedContro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0099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pdate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QLObject obj, boolean readOn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6baf"/>
                </a:solidFill>
                <a:latin typeface="Arial"/>
                <a:ea typeface="宋体"/>
              </a:rPr>
              <a:t>Sample code</a:t>
            </a:r>
            <a:endParaRPr b="1" lang="en-US" sz="2800" spc="-1" strike="noStrike">
              <a:solidFill>
                <a:srgbClr val="4b6ba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8640" y="163656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zip com.ibm.datatools.extendProperties_1.0.0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plugin in the plugins folder of your RDA directory, for example C:\Program Files\IBM\SDP70\plu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eclipse -clean command on the RDA directory which allows RDA to pick up the newly added plu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BM Rational Data Archit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99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 com.ibm.datatools.extendProperties into your 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be able to look at the sample code that demonstrate how to add customer prope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ple plugin add two new properties Data Sensible and Sample Text to a logical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22:53:56Z</dcterms:created>
  <dc:creator>hyu</dc:creator>
  <dc:description/>
  <dc:language>en-US</dc:language>
  <cp:lastModifiedBy>IBM_USER</cp:lastModifiedBy>
  <dcterms:modified xsi:type="dcterms:W3CDTF">2008-05-13T17:51:47Z</dcterms:modified>
  <cp:revision>185</cp:revision>
  <dc:subject>IBM Presentation System</dc:subject>
  <dc:title>Rational software: XDE DB2 Support</dc:title>
</cp:coreProperties>
</file>